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8760" y="63216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trategic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C0A7-3334-43F6-8A74-476CFE5F28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86680" y="587520"/>
            <a:ext cx="56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trate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mputing and Commun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A 290D, EECS 201, IS 2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pring 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d G. Messerschmi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ce of non-technical factors (con’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ing industry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tical stovepipe to horizontal lay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ing frag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ater role of start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tegic importance of intellectu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aboration, consortia, standardization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ing nature of the j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eryone must be flexible, broad, interdisciplinary, and strategic in small compan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jor top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ing industry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ers and s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obstacles to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ization, alliances, conso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ectual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inter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ent responsibili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e in class discussion (1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e in online forums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group projects (6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ose a product category or industry and apply strategic analysis from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both sides of a controversial 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example” assignments (1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ings (books, Web, oth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room activ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s on major topics of th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rely heavily on rea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of examples and controversial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lemented by online fo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side speakers (faculty, indust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deb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ministrati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BA class represen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http://www.sims.berkeley.edu/courses/is224/s99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llow for announc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s224@sims.berkeley.edu: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forum will be set up on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delphi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project and speaker (faculty, industry) topic ideas wel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 and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of course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rse materi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piro and Varian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formation Rules, A Strategic Guide to the Network Econo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rschmitt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ed Applications: A Guide to the New Computing Infra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sims.berkeley.edu/courses/is224/s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computer science stud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cessful product positioning and design requires consideration of many important non-technical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economics, law, polic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ment stud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uter and communication technologies have some special issues and challenges for high-tech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on (con’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management stud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able overlap of information and software in management challe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is infrastructure for  information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eciate and understand non-technical issues 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ise from special characteristics of high-te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their imprint on the indu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 product positioning and 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eciate strategies for success in information and high-tech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ng together computer science, engineering, business, and information management students to learn from one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ain focused on the interaction of technical and non-technical factors (rather than either in iso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o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ing bundled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and other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reasing importance of non-technical factor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ingly the focus is more on “what to do” rather than “how to do i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re architects and civil engine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commercial (market driven), less mili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egulation of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gence of communications and computing, affecting both industries irrevoca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cus on standardization in computing due to enterprise and commerce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cus on competition and rapid innovation in commun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ce of non-technical factors (con’t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6960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nomics effe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rmation and software econom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twork effects, lock-in, winner-take-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systems and standard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ing role of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ion and antitr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cryption, priv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arch 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9:43:01Z</dcterms:created>
  <dc:creator>David G. Messerschmitt</dc:creator>
  <dc:description/>
  <dc:language>en-US</dc:language>
  <cp:lastModifiedBy>Hal R. Varian</cp:lastModifiedBy>
  <cp:lastPrinted>1998-01-21T05:26:02Z</cp:lastPrinted>
  <dcterms:modified xsi:type="dcterms:W3CDTF">1999-01-20T17:12:26Z</dcterms:modified>
  <cp:revision>43</cp:revision>
  <dc:subject/>
  <dc:title>EE290X, CS294-6, BA 296.5 Strategic Computing and Communications Technology</dc:title>
</cp:coreProperties>
</file>