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3216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formation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18320" y="62974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pring 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32120" y="62485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1F49-B00F-47ED-A200-19E5B4829C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71640" y="587520"/>
            <a:ext cx="5536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formation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 Strategic Guide to the Network Econo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Information Econo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l Shap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 R. Var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ck-In and Switching Cos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Stereos and L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ly switch to C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s lock-in: durable comp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ware, software, and we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vidual, organizational, and socie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work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depends on number of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x (patented in 184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(1980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rect network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ations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titive pre-announc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ati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a v. V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y v. Philips for DV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le of 3rd pa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v. write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wards compatibi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Strateg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it 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s (Jav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standard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spread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ensing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tion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market 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mark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tion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tr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ic comme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v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formation is Different…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ut not so differen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k-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s competitio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s of Produ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ary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ware/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ent/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er/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fixed cost, low incremental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s to value-based pr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que Fe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manufactur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y for complementors as well as compet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tibility as strategic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s and inter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quality may be more expe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thing that can be digit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xt, images, videos, music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k.a. content, digital g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que cost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que demand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st stru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nsive to produce, cheap to reprod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fixed cost, low marginal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only fixed, but su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ignificant capacity 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ular market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opo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 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 differentiation (version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ghts Manag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reproduction cost is two-edged s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ap for owners (high profit marg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also cheap for cop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miz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IP, not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y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deo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sumption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w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n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utation and brand id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l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s of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tmail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, point-to-point, hyb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structure to store, retrieve, filter, manipulate, view, transmit, and receive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s value to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= 2 terabyte of text = 2 million 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10% useful =1.5 Borders Bookst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of Web is in ease of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nt end to databas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s Compet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oft-Intel: Win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ditize complementory c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ditize P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d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better, but lack of competition and scale led to current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9T03:18:47Z</dcterms:created>
  <dc:creator>Hal Varian</dc:creator>
  <dc:description/>
  <dc:language>en-US</dc:language>
  <cp:lastModifiedBy>Hal R. Varian</cp:lastModifiedBy>
  <dcterms:modified xsi:type="dcterms:W3CDTF">1999-01-20T17:17:54Z</dcterms:modified>
  <cp:revision>34</cp:revision>
  <dc:subject/>
  <dc:title>The Information Economy</dc:title>
</cp:coreProperties>
</file>